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13B-054E-4838-A057-B8DFA254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44D-8C8F-4E54-8D2C-CA2984EB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0C7-24E9-449E-9115-6741EFF7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C93-2BC7-4604-A66F-6FF146AE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4E9-9190-4A75-A15D-DD5956A8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D01-CD73-4B4E-92AE-78BF0576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F37-5170-40C8-BC0E-A15F7FC0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247-D820-4BCF-B0C4-E5B4325C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BDB-C838-4244-A27A-12790CE8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52F-CF20-4099-89E9-7C5F7EB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8BE-078D-46B6-88C1-F50F80C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750-8B8D-4A7C-A21F-D4B26237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5D53-F879-40DB-82A9-5AAC7528E308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resentação aos part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58672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   </a:t>
            </a:r>
            <a:r>
              <a:rPr b="1" lang="pt-BR" sz="4400" spc="-1" strike="noStrike">
                <a:solidFill>
                  <a:srgbClr val="000000"/>
                </a:solidFill>
                <a:latin typeface="Calibri Light"/>
              </a:rPr>
              <a:t>FILIAÇÃO PARTIDÁRIA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 Light"/>
              </a:rPr>
              <a:t>Legislação e Sistema Fil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22, parágrafo único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Havendo coexistência de filiações partidárias, prevalecerá a mais recente, devendo a Justiça Eleitoral determinar o cancelamento das demai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nceit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intern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interna do partido, ainda não informada à Justiça Eleitor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submetid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interna liberada pelo partido para participação no próximo processament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fechad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ituação da relação após o encerramento do prazo legal para fornecimento dos dados à JE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onceit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oficial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fechada que será publicada pela JE e cujos dados servirão de base para o cumprimento das finalidades legais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ordinári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fornecida nos meses de abril e outubro de cada an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especial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fornecidas nos meses de junho e dezembro de cada a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Dinâmica da lista ordinári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tângulo 3"/>
          <p:cNvSpPr/>
          <p:nvPr/>
        </p:nvSpPr>
        <p:spPr>
          <a:xfrm>
            <a:off x="755640" y="3284640"/>
            <a:ext cx="1368360" cy="115236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Calibri"/>
              </a:rPr>
              <a:t>Partido trabalha em sua lista INTER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ângulo 6"/>
          <p:cNvSpPr/>
          <p:nvPr/>
        </p:nvSpPr>
        <p:spPr>
          <a:xfrm>
            <a:off x="2556000" y="4221000"/>
            <a:ext cx="1368360" cy="115272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Calibri"/>
              </a:rPr>
              <a:t>Partido submete a lis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7"/>
          <p:cNvSpPr/>
          <p:nvPr/>
        </p:nvSpPr>
        <p:spPr>
          <a:xfrm>
            <a:off x="4211640" y="3284640"/>
            <a:ext cx="1368360" cy="115236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Calibri"/>
              </a:rPr>
              <a:t>Abril e outubro a lista é processada pela Justiça Eleitor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tângulo 8"/>
          <p:cNvSpPr/>
          <p:nvPr/>
        </p:nvSpPr>
        <p:spPr>
          <a:xfrm>
            <a:off x="6372360" y="4221000"/>
            <a:ext cx="1368360" cy="115272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Calibri"/>
              </a:rPr>
              <a:t>Após processada = lista ofici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Espécie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dministrador Nacional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dministrador Estadu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dministrador Municip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perador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nsulta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Espécies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Administrador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ode cadastrar outros usuários, inserir e excluir filiações, submeter a lista de filiados e realizar consultas (respeitada a sua esfera de atuaçã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Operador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ode inserir e excluir filiações, submeter a lista de filiados e realizar consultas (respeitada a sua esfera de atuação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onsulta: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só pode realizar consultas (respeitada a sua esfera de atuação)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adastramento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quisito para ser administrador: é necessário ser Presidente, Vice-Presidente ou Delegado de Partido Polític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quisito para usuário operador ou consulta: basta um título eleitoral válido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– Principais Pontos - Cadastramento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Administrador Nacional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Presidente é cadastrado pelo TSE, os demais são cadastrados pelo próprio President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Administradores Estaduais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adastrados por um dos administradores nacionais ou por outro administrador estadu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Administradores Municipais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adastrados por um dos administradores do respectivo Estado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u por outro municipa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bs.: Após cadastrado o primeiro administrador no Estado ou Município, estes podem cadastrar outros administradores, desde que respeitada a abrangência e que esteja anotado como Presidente, Vice ou Delegado no SGIP3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688968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4"/>
          <p:cNvSpPr/>
          <p:nvPr/>
        </p:nvSpPr>
        <p:spPr>
          <a:xfrm>
            <a:off x="270000" y="136440"/>
            <a:ext cx="4464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560" bIns="3456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700" spc="-1" strike="noStrike">
                <a:solidFill>
                  <a:srgbClr val="d9d9d9"/>
                </a:solidFill>
                <a:latin typeface="Calibri"/>
              </a:rPr>
              <a:t>Usuário – Módulo Extern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ço Reservado para Conteúdo 1"/>
          <p:cNvSpPr/>
          <p:nvPr/>
        </p:nvSpPr>
        <p:spPr>
          <a:xfrm>
            <a:off x="341280" y="739800"/>
            <a:ext cx="84805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560" bIns="34560" anchor="t">
            <a:noAutofit/>
          </a:bodyPr>
          <a:p>
            <a:pPr marL="216000" indent="-216000">
              <a:spcBef>
                <a:spcPts val="751"/>
              </a:spcBef>
              <a:buClr>
                <a:srgbClr val="203864"/>
              </a:buClr>
              <a:buSzPct val="7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2900" spc="-1" strike="noStrike">
                <a:solidFill>
                  <a:srgbClr val="203864"/>
                </a:solidFill>
                <a:latin typeface="Calibri"/>
              </a:rPr>
              <a:t>Regra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06640" indent="-216000" algn="just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203864"/>
                </a:solidFill>
                <a:latin typeface="Calibri"/>
              </a:rPr>
              <a:t>O </a:t>
            </a:r>
            <a:r>
              <a:rPr b="1" lang="pt-BR" sz="2400" spc="-1" strike="noStrike">
                <a:solidFill>
                  <a:srgbClr val="203864"/>
                </a:solidFill>
                <a:latin typeface="Calibri"/>
              </a:rPr>
              <a:t>Administrador Nacional</a:t>
            </a:r>
            <a:r>
              <a:rPr b="0" lang="pt-BR" sz="2400" spc="-1" strike="noStrike">
                <a:solidFill>
                  <a:srgbClr val="203864"/>
                </a:solidFill>
                <a:latin typeface="Calibri"/>
              </a:rPr>
              <a:t>, que foi cadastrado no </a:t>
            </a:r>
            <a:r>
              <a:rPr b="1" lang="pt-BR" sz="2400" spc="-1" strike="noStrike">
                <a:solidFill>
                  <a:srgbClr val="203864"/>
                </a:solidFill>
                <a:latin typeface="Calibri"/>
              </a:rPr>
              <a:t>Módulo Interno – ambiente TSE</a:t>
            </a:r>
            <a:r>
              <a:rPr b="0" lang="pt-BR" sz="2400" spc="-1" strike="noStrike">
                <a:solidFill>
                  <a:srgbClr val="203864"/>
                </a:solidFill>
                <a:latin typeface="Calibri"/>
              </a:rPr>
              <a:t>, será o responsável pelos seguintes cadastr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65280" indent="-216000" algn="just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106640" indent="-216000" algn="just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106640" indent="-216000" algn="just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106640" indent="-216000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700200" y="2386080"/>
            <a:ext cx="743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adastramento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Operador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operador só pode ser cadastrado pelos administradores de sua abrangência ou da abrangência superior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onsult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usuário consulta só pode ser cadastrado pelos administradores de sua abrangência ou abrangência superi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Esclarecimentos preliminare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- Competência para gestão do sistema: Presidência com apoio da Secretaria Judiciária e Secretaria de Tecnologia da Informaçã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- Nome do novo sistema: FILIA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gulamentação: Lei nº 9.096/95 e Resolução –TSE nº 23.596/2019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Erro nos dados cadastrai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Filiado não constará, sequer, da lista interna enquanto não forem informados os dados corret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Horário limite para submissão de lista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té às 23h59min do último dia, observado o horário de Brasíli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bs.: ultrapassado o prazo, nova submissão somente será possível após o processame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Migração de dad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correrá em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terna com interna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ficial com oficial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erá mantido o status dos dados constantes no sistema anterior (FiliaWEB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Transferência de domicílio do eleitor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erá informada aos administradores estaduais e municipais de origem e de destino a realização da transferência 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Calibri"/>
              </a:rPr>
              <a:t>automática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pelo sistem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bs.: no FILIAWEB exigia-se anuência do diretório de desti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Utilização do sistema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Log do sistema (apenas para usuários internos)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ossibilita que os usuários realizem consulta ao log do sistema em cada registro de filiação partidári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Utilização do sistema – Principais Pontos – Autonomia Partidár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reenchimento concomitante das listas internas (pelas várias instâncias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caso o partido entenda por trabalhar de forma descentralizada será possível que o órgão nacional, estadual e municipal trabalhem de forma concomitante na mesma lista de filiação (obedecida a abrangência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Utilização do sistema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ossibilidade de submissão destas listas antes do final do prazo, sem prejuízo de novas alterações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sistema possibilita que o partido clique no botão “submeter” em qualquer momento do prazo (ex.: em agosto), com a faculdade de continuar atualizando a lista sem necessidade de nova submissã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No último dia do prazo o sistema captura a lista submetida e realiza o processame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Utilização do sistema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municação com o SGIP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ncessão de senha aos Presidentes Nacionais (no momento de oficialização do sistema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Verificar prazo de vigência dos órgãos de direçã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Verificar eventual suspensão do órgão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municação com o cadastro eleitoral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Falecimento de Eleitor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erda dos direitos polític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OBRIGADO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ronograma de Implementação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alização de Audiência Pública em 27 de junh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20/08: Aprovação da resolução pelo Plenário do TSE (Resolução-TSE nº 23.596/2019, publicada em 27 de agosto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uspensão a utilização do FILIAWEB: 31 de agosto a 08 de setembr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Migração dos dados entre sistemas: 31 de agosto a 08 de setembr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união com os representantes dos Órgãos Partidários Nacionais: 05 de setembr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ficialização do sistema: 09 de setembr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6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ó pode filiar-se a partido o eleitor que estiver no pleno gozo de seus direitos polític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No momento do cadastro o FILIA verificará se o eleitor possui título na situação regula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9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Na segunda semana dos meses de 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Calibri"/>
              </a:rPr>
              <a:t>abril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Calibri"/>
              </a:rPr>
              <a:t>outubro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de cada ano, o partido, por seus órgãos de direção municipais, regionais ou nacional, deverá remeter, aos juízes eleitorais, para arquivamento, publicação e cumprimento dos prazos de filiação partidária para efeito de candidatura a cargos eletivos, a relação dos nomes de todos os seus filiados, da qual constará a data de filiação, o número dos títulos eleitorais e das seções em que estão inscritos.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9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Há prazo fixo para entrega das filiações (abril e outubro – ordinárias ou junho e dezembro - especiais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- A Presidência do TSE expedirá portaria nos meses anteriores para divulgar cronograma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9, §1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- § 1º Se a relação não é remetida nos prazos mencionados neste artigo, permanece inalterada a filiação de todos os eleitores, constante da relação remetida anteriormente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9, §2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§ 2º Os prejudicados por desídia ou má-fé poderão requerer, diretamente à Justiça Eleitoral, a observância do que prescreve o caput deste artig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Lista especial (junho e dezembro, art. 20 da Resolução – TSE nº 23.117/2009): (descrever procedimento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 art. 21 (Listas Especiais – Procedimento no Cartório Eleitora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Eleitor prejudicado aciona a Justiça Eleitor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querimento recebido pelo Juiz, que solicita manifestação do partido polític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juiz pode ordenar o processamento da lista especi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servidor do Cartório autoriza o processamento da list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7:19:29Z</dcterms:created>
  <dc:creator>Bruney Guimarães Brum</dc:creator>
  <dc:description/>
  <dc:language>en-US</dc:language>
  <cp:lastModifiedBy>wilton.freire</cp:lastModifiedBy>
  <dcterms:modified xsi:type="dcterms:W3CDTF">2019-09-06T17:56:39Z</dcterms:modified>
  <cp:revision>99</cp:revision>
  <dc:subject/>
  <dc:title>COMUNICAÇÕES PROCESSUAIS</dc:title>
</cp:coreProperties>
</file>