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2241213" cy="9001125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16B-BD8E-4F5C-BC48-95B5C311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210-CDE1-40EB-8883-BD327C57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300-3469-4613-A3B5-CB4ADD58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3692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6148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200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3692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6148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9E1-789F-42A9-88B3-C397B7AA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45F6-6C94-4E6B-8537-924CEFED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7F70-5235-40E4-80A8-AC61FB49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9C15-234A-4966-8D30-1CFD7943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E515-E4E4-4045-99CC-C253C66D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8B34-4415-43CD-AE7B-95F4751F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12000" y="358920"/>
            <a:ext cx="1101636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50EF-BAEA-4A94-A2EB-92F9EF65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D372-57F5-4E9F-81E8-3FE15252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C6A-AF0D-4303-9C36-835CDB45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EB3C-975B-42CD-A614-80E70B90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2813-7E0C-4D57-BDD5-B4516854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64C5-2AF6-475F-8091-92D94B5B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48D1-6CAE-4E10-BD42-2C6C7C12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3692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6148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200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3692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6148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F40A-7B8B-4C5C-AF79-8D6ADDB1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62AE-0632-4B30-AD63-204FB841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B408-FC3C-4B60-B3CE-F7E23225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BB30-4F87-4DDD-9555-3131F4FD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72FF-CCA8-4E47-9BD5-C634EC6A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277A-A2A8-4898-AEB5-5F2BA0D1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9CD-7441-4406-BC83-DEA74A5F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12000" y="358920"/>
            <a:ext cx="1101636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E7CC-CC01-4379-9A41-67838728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D033-14CD-43FC-9F22-BAA230E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815B-004D-4CE2-BF4D-D336A233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2ED1-0048-4DFF-B849-86B1B950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496A-7E44-4727-907D-7173147C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2D70-5476-4CDC-A017-5D7E3D54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3692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06148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1200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3692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806148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BA47-3DD7-48A4-883F-7740C7A4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655-A094-4168-A0FD-01BA8851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CDA-BF3D-4586-9E9F-7823454F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2000" y="358920"/>
            <a:ext cx="1101636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7D1-7DCC-4420-B313-92CA5DB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E7D-9D94-484C-AC35-FC155DBF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70A-DFF4-42B4-8CAA-AF16E025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78B-A915-4659-A30D-E46DA60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aixaDeTexto 6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TÍTULO DA APRESEN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CaixaDeTexto 3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TÍTULO DA APRESEN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8000" y="2796120"/>
            <a:ext cx="10404720" cy="1928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1320" rIns="121320" tIns="60840" bIns="608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t-BR" sz="5000" spc="-1" strike="noStrike">
                <a:solidFill>
                  <a:srgbClr val="254061"/>
                </a:solidFill>
                <a:latin typeface="Calibri"/>
              </a:rPr>
              <a:t>Clique para editar o estilo do título mestre</a:t>
            </a:r>
            <a:endParaRPr b="0" lang="pt-BR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1272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6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83200" y="8342280"/>
            <a:ext cx="387468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77248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C841A3-12AB-49C3-A872-9BFA367E7584}" type="slidenum">
              <a:rPr b="0" lang="pt-BR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12000" y="2106000"/>
            <a:ext cx="11016360" cy="52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4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pt-BR" sz="3200" spc="-1" strike="noStrike">
              <a:solidFill>
                <a:srgbClr val="254061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aixaDeTexto 6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TÍTULO DA APRESEN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ixaDeTexto 2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TÍTULO DA APRESEN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971640"/>
            <a:ext cx="12240720" cy="972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1320" rIns="121320" tIns="60840" bIns="608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t-BR" sz="5000" spc="-1" strike="noStrike">
                <a:solidFill>
                  <a:srgbClr val="254061"/>
                </a:solidFill>
                <a:latin typeface="Calibri"/>
              </a:rPr>
              <a:t>Clique para editar o estilo do título mestre</a:t>
            </a:r>
            <a:endParaRPr b="0" lang="pt-BR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1272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6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183200" y="8342280"/>
            <a:ext cx="387468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77248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8762E4-15B2-47C3-AAB3-D0F7288D19BE}" type="slidenum">
              <a:rPr b="0" lang="pt-BR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612000" y="2106000"/>
            <a:ext cx="11016360" cy="52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4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pt-BR" sz="3200" spc="-1" strike="noStrike">
              <a:solidFill>
                <a:srgbClr val="254061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ixaDeTexto 6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TÍTULO DA APRESEN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1320" rIns="121320" tIns="60840" bIns="60840" anchor="t">
            <a:noAutofit/>
          </a:bodyPr>
          <a:p>
            <a:pPr marL="287280" indent="-28728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Wingdings" charset="2"/>
              <a:buChar char=""/>
            </a:pPr>
            <a:r>
              <a:rPr b="0" lang="pt-BR" sz="4200" spc="-1" strike="noStrike">
                <a:solidFill>
                  <a:srgbClr val="254061"/>
                </a:solidFill>
                <a:latin typeface="Calibri"/>
              </a:rPr>
              <a:t>Clique para editar os estilos do texto mestre</a:t>
            </a: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  <a:p>
            <a:pPr lvl="1" marL="574560" indent="-2872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0" lang="pt-BR" sz="3700" spc="-1" strike="noStrike">
                <a:solidFill>
                  <a:srgbClr val="254061"/>
                </a:solidFill>
                <a:latin typeface="Calibri"/>
              </a:rPr>
              <a:t>Segundo nível</a:t>
            </a:r>
            <a:endParaRPr b="0" lang="pt-BR" sz="3700" spc="-1" strike="noStrike">
              <a:solidFill>
                <a:srgbClr val="254061"/>
              </a:solidFill>
              <a:latin typeface="Calibri"/>
            </a:endParaRPr>
          </a:p>
          <a:p>
            <a:pPr lvl="2" marL="863640" indent="-28728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200" spc="-1" strike="noStrike">
                <a:solidFill>
                  <a:srgbClr val="254061"/>
                </a:solidFill>
                <a:latin typeface="Calibri"/>
              </a:rPr>
              <a:t>Terceiro nível</a:t>
            </a:r>
            <a:endParaRPr b="0" lang="pt-BR" sz="3200" spc="-1" strike="noStrike">
              <a:solidFill>
                <a:srgbClr val="254061"/>
              </a:solidFill>
              <a:latin typeface="Calibri"/>
            </a:endParaRPr>
          </a:p>
          <a:p>
            <a:pPr lvl="3" marL="1150920" indent="-28728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60000"/>
              <a:buFont typeface="Courier New"/>
              <a:buChar char="o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Quarto ní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  <a:p>
            <a:pPr lvl="4" marL="1440000" indent="-287280">
              <a:lnSpc>
                <a:spcPct val="100000"/>
              </a:lnSpc>
              <a:spcBef>
                <a:spcPts val="201"/>
              </a:spcBef>
              <a:buClr>
                <a:srgbClr val="254061"/>
              </a:buClr>
              <a:buSzPct val="60000"/>
              <a:buFont typeface="Arial"/>
              <a:buChar char="»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Quinto ní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61272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6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4183200" y="8342280"/>
            <a:ext cx="387468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877248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D27CC4-A5D7-4793-9684-BC3DBCE30984}" type="slidenum">
              <a:rPr b="0" lang="pt-BR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aixaDeTexto 6"/>
          <p:cNvSpPr/>
          <p:nvPr/>
        </p:nvSpPr>
        <p:spPr>
          <a:xfrm>
            <a:off x="431640" y="755640"/>
            <a:ext cx="8353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6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Sistema de Filiação Partidár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ixaDeTexto 7"/>
          <p:cNvSpPr/>
          <p:nvPr/>
        </p:nvSpPr>
        <p:spPr>
          <a:xfrm>
            <a:off x="2016000" y="3780000"/>
            <a:ext cx="5976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9600" spc="-1" strike="noStrike">
                <a:solidFill>
                  <a:srgbClr val="808080"/>
                </a:solidFill>
                <a:latin typeface="Calibri"/>
              </a:rPr>
              <a:t>FIL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64" name="CaixaDeTexto 4"/>
          <p:cNvSpPr/>
          <p:nvPr/>
        </p:nvSpPr>
        <p:spPr>
          <a:xfrm>
            <a:off x="360360" y="179280"/>
            <a:ext cx="864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Acesso ao Módulo Externo - FIL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6"/>
          <p:cNvSpPr/>
          <p:nvPr/>
        </p:nvSpPr>
        <p:spPr>
          <a:xfrm>
            <a:off x="3168360" y="241236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Retângulo 7"/>
          <p:cNvSpPr/>
          <p:nvPr/>
        </p:nvSpPr>
        <p:spPr>
          <a:xfrm>
            <a:off x="5328360" y="241236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972000"/>
            <a:ext cx="12240720" cy="8028720"/>
          </a:xfrm>
          <a:prstGeom prst="rect">
            <a:avLst/>
          </a:prstGeom>
          <a:ln w="9525">
            <a:noFill/>
          </a:ln>
        </p:spPr>
      </p:pic>
      <p:sp>
        <p:nvSpPr>
          <p:cNvPr id="168" name="Retângulo 8"/>
          <p:cNvSpPr/>
          <p:nvPr/>
        </p:nvSpPr>
        <p:spPr>
          <a:xfrm>
            <a:off x="3240360" y="270036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Retângulo 9"/>
          <p:cNvSpPr/>
          <p:nvPr/>
        </p:nvSpPr>
        <p:spPr>
          <a:xfrm>
            <a:off x="6120720" y="270036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71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ângulo 6"/>
          <p:cNvSpPr/>
          <p:nvPr/>
        </p:nvSpPr>
        <p:spPr>
          <a:xfrm>
            <a:off x="1512000" y="716472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Retângulo 7"/>
          <p:cNvSpPr/>
          <p:nvPr/>
        </p:nvSpPr>
        <p:spPr>
          <a:xfrm>
            <a:off x="1512000" y="759708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Retângulo 8"/>
          <p:cNvSpPr/>
          <p:nvPr/>
        </p:nvSpPr>
        <p:spPr>
          <a:xfrm>
            <a:off x="1512000" y="802908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Retângulo 9"/>
          <p:cNvSpPr/>
          <p:nvPr/>
        </p:nvSpPr>
        <p:spPr>
          <a:xfrm>
            <a:off x="3600360" y="716472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Retângulo 10"/>
          <p:cNvSpPr/>
          <p:nvPr/>
        </p:nvSpPr>
        <p:spPr>
          <a:xfrm>
            <a:off x="3600360" y="759708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Retângulo 11"/>
          <p:cNvSpPr/>
          <p:nvPr/>
        </p:nvSpPr>
        <p:spPr>
          <a:xfrm>
            <a:off x="3600360" y="802908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Retângulo 12"/>
          <p:cNvSpPr/>
          <p:nvPr/>
        </p:nvSpPr>
        <p:spPr>
          <a:xfrm>
            <a:off x="4464360" y="802908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Retângulo 13"/>
          <p:cNvSpPr/>
          <p:nvPr/>
        </p:nvSpPr>
        <p:spPr>
          <a:xfrm>
            <a:off x="4464360" y="759708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Retângulo 14"/>
          <p:cNvSpPr/>
          <p:nvPr/>
        </p:nvSpPr>
        <p:spPr>
          <a:xfrm>
            <a:off x="4464360" y="716472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0" y="972000"/>
            <a:ext cx="12240720" cy="8028720"/>
          </a:xfrm>
          <a:prstGeom prst="rect">
            <a:avLst/>
          </a:prstGeom>
          <a:ln w="9525">
            <a:noFill/>
          </a:ln>
        </p:spPr>
      </p:pic>
      <p:sp>
        <p:nvSpPr>
          <p:cNvPr id="182" name="Retângulo 15"/>
          <p:cNvSpPr/>
          <p:nvPr/>
        </p:nvSpPr>
        <p:spPr>
          <a:xfrm>
            <a:off x="6408720" y="356436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Retângulo 16"/>
          <p:cNvSpPr/>
          <p:nvPr/>
        </p:nvSpPr>
        <p:spPr>
          <a:xfrm>
            <a:off x="1368000" y="745272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Retângulo 17"/>
          <p:cNvSpPr/>
          <p:nvPr/>
        </p:nvSpPr>
        <p:spPr>
          <a:xfrm>
            <a:off x="3456360" y="7452720"/>
            <a:ext cx="503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Retângulo 18"/>
          <p:cNvSpPr/>
          <p:nvPr/>
        </p:nvSpPr>
        <p:spPr>
          <a:xfrm>
            <a:off x="4320360" y="745272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87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90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0" y="-3600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93" name="CaixaDeTexto 4"/>
          <p:cNvSpPr/>
          <p:nvPr/>
        </p:nvSpPr>
        <p:spPr>
          <a:xfrm>
            <a:off x="360360" y="179280"/>
            <a:ext cx="9793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Registro de Filiação </a:t>
            </a: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– Módulo Externo</a:t>
            </a: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Conteúdo 1"/>
          <p:cNvSpPr/>
          <p:nvPr/>
        </p:nvSpPr>
        <p:spPr>
          <a:xfrm>
            <a:off x="457200" y="1600200"/>
            <a:ext cx="11351880" cy="59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4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Principais regr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Não será permitido o cadastro de filiado quando houver alguma inconsistência entre os dados informados no sistema e os dados cadastrados no Cadastro Nacional de Eleitores (nome, seção, inscrição e zona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 nome do filiado deverá estar igual ao que consta no Cadastro Nacional de Eleitores, desconsiderando acent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Não será possível cadastrar um registro de filiação cuja inscrição não esteja regular no Cadastro Nacional de Eleit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96" name="CaixaDeTexto 4"/>
          <p:cNvSpPr/>
          <p:nvPr/>
        </p:nvSpPr>
        <p:spPr>
          <a:xfrm>
            <a:off x="360360" y="179280"/>
            <a:ext cx="820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Registro de Filiaçã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tângulo 10"/>
          <p:cNvSpPr/>
          <p:nvPr/>
        </p:nvSpPr>
        <p:spPr>
          <a:xfrm>
            <a:off x="1512000" y="666072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Retângulo 11"/>
          <p:cNvSpPr/>
          <p:nvPr/>
        </p:nvSpPr>
        <p:spPr>
          <a:xfrm>
            <a:off x="1296000" y="687672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Retângulo 12"/>
          <p:cNvSpPr/>
          <p:nvPr/>
        </p:nvSpPr>
        <p:spPr>
          <a:xfrm>
            <a:off x="1440000" y="7164720"/>
            <a:ext cx="935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Retângulo 13"/>
          <p:cNvSpPr/>
          <p:nvPr/>
        </p:nvSpPr>
        <p:spPr>
          <a:xfrm>
            <a:off x="1296000" y="7380720"/>
            <a:ext cx="935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  <p:sp>
        <p:nvSpPr>
          <p:cNvPr id="202" name="Retângulo 15"/>
          <p:cNvSpPr/>
          <p:nvPr/>
        </p:nvSpPr>
        <p:spPr>
          <a:xfrm>
            <a:off x="1296000" y="6948720"/>
            <a:ext cx="201600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Retângulo 16"/>
          <p:cNvSpPr/>
          <p:nvPr/>
        </p:nvSpPr>
        <p:spPr>
          <a:xfrm>
            <a:off x="1152000" y="7164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Retângulo 17"/>
          <p:cNvSpPr/>
          <p:nvPr/>
        </p:nvSpPr>
        <p:spPr>
          <a:xfrm>
            <a:off x="1296000" y="7380720"/>
            <a:ext cx="201600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Retângulo 18"/>
          <p:cNvSpPr/>
          <p:nvPr/>
        </p:nvSpPr>
        <p:spPr>
          <a:xfrm>
            <a:off x="1152000" y="766908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3"/>
          <a:stretch/>
        </p:blipFill>
        <p:spPr>
          <a:xfrm>
            <a:off x="8280720" y="7524720"/>
            <a:ext cx="466200" cy="1900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4"/>
          <a:stretch/>
        </p:blipFill>
        <p:spPr>
          <a:xfrm>
            <a:off x="9793080" y="7452720"/>
            <a:ext cx="837720" cy="313920"/>
          </a:xfrm>
          <a:prstGeom prst="rect">
            <a:avLst/>
          </a:prstGeom>
          <a:ln w="9525">
            <a:noFill/>
          </a:ln>
        </p:spPr>
      </p:pic>
      <p:sp>
        <p:nvSpPr>
          <p:cNvPr id="208" name="Retângulo 19"/>
          <p:cNvSpPr/>
          <p:nvPr/>
        </p:nvSpPr>
        <p:spPr>
          <a:xfrm>
            <a:off x="10657080" y="7524720"/>
            <a:ext cx="50364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Elipse 20"/>
          <p:cNvSpPr/>
          <p:nvPr/>
        </p:nvSpPr>
        <p:spPr>
          <a:xfrm>
            <a:off x="432000" y="3852360"/>
            <a:ext cx="1367640" cy="791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Retângulo 21"/>
          <p:cNvSpPr/>
          <p:nvPr/>
        </p:nvSpPr>
        <p:spPr>
          <a:xfrm>
            <a:off x="1080000" y="363636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Elipse 22"/>
          <p:cNvSpPr/>
          <p:nvPr/>
        </p:nvSpPr>
        <p:spPr>
          <a:xfrm>
            <a:off x="9577080" y="6588720"/>
            <a:ext cx="1583640" cy="1367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13" name="CaixaDeTexto 4"/>
          <p:cNvSpPr/>
          <p:nvPr/>
        </p:nvSpPr>
        <p:spPr>
          <a:xfrm>
            <a:off x="360360" y="179280"/>
            <a:ext cx="820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Registro de Filiaçã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tângulo 10"/>
          <p:cNvSpPr/>
          <p:nvPr/>
        </p:nvSpPr>
        <p:spPr>
          <a:xfrm>
            <a:off x="1368000" y="6804720"/>
            <a:ext cx="143964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Retângulo 11"/>
          <p:cNvSpPr/>
          <p:nvPr/>
        </p:nvSpPr>
        <p:spPr>
          <a:xfrm>
            <a:off x="1368000" y="7308720"/>
            <a:ext cx="143964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Retângulo 12"/>
          <p:cNvSpPr/>
          <p:nvPr/>
        </p:nvSpPr>
        <p:spPr>
          <a:xfrm>
            <a:off x="1152000" y="7092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Retângulo 13"/>
          <p:cNvSpPr/>
          <p:nvPr/>
        </p:nvSpPr>
        <p:spPr>
          <a:xfrm>
            <a:off x="1152000" y="759708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1080" cy="7956720"/>
          </a:xfrm>
          <a:prstGeom prst="rect">
            <a:avLst/>
          </a:prstGeom>
          <a:ln w="9525">
            <a:noFill/>
          </a:ln>
        </p:spPr>
      </p:pic>
      <p:sp>
        <p:nvSpPr>
          <p:cNvPr id="219" name="Retângulo 14"/>
          <p:cNvSpPr/>
          <p:nvPr/>
        </p:nvSpPr>
        <p:spPr>
          <a:xfrm>
            <a:off x="1296000" y="6804720"/>
            <a:ext cx="201600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Retângulo 15"/>
          <p:cNvSpPr/>
          <p:nvPr/>
        </p:nvSpPr>
        <p:spPr>
          <a:xfrm>
            <a:off x="1224000" y="7020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Retângulo 16"/>
          <p:cNvSpPr/>
          <p:nvPr/>
        </p:nvSpPr>
        <p:spPr>
          <a:xfrm>
            <a:off x="1296000" y="7308720"/>
            <a:ext cx="201600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Retângulo 17"/>
          <p:cNvSpPr/>
          <p:nvPr/>
        </p:nvSpPr>
        <p:spPr>
          <a:xfrm>
            <a:off x="1224000" y="7524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Retângulo 18"/>
          <p:cNvSpPr/>
          <p:nvPr/>
        </p:nvSpPr>
        <p:spPr>
          <a:xfrm>
            <a:off x="1080000" y="356436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Elipse 19"/>
          <p:cNvSpPr/>
          <p:nvPr/>
        </p:nvSpPr>
        <p:spPr>
          <a:xfrm>
            <a:off x="432000" y="3780360"/>
            <a:ext cx="1367640" cy="791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Elipse 20"/>
          <p:cNvSpPr/>
          <p:nvPr/>
        </p:nvSpPr>
        <p:spPr>
          <a:xfrm>
            <a:off x="9505080" y="6732720"/>
            <a:ext cx="1151640" cy="1079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27" name="CaixaDeTexto 4"/>
          <p:cNvSpPr/>
          <p:nvPr/>
        </p:nvSpPr>
        <p:spPr>
          <a:xfrm>
            <a:off x="360360" y="179280"/>
            <a:ext cx="820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Registro de Filiaçã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30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Relação Intern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  <p:sp>
        <p:nvSpPr>
          <p:cNvPr id="232" name="Elipse 7"/>
          <p:cNvSpPr/>
          <p:nvPr/>
        </p:nvSpPr>
        <p:spPr>
          <a:xfrm>
            <a:off x="10009080" y="7092720"/>
            <a:ext cx="1367640" cy="863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Elipse 8"/>
          <p:cNvSpPr/>
          <p:nvPr/>
        </p:nvSpPr>
        <p:spPr>
          <a:xfrm>
            <a:off x="3816360" y="2412360"/>
            <a:ext cx="1151640" cy="719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35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Relação Intern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tângulo 6"/>
          <p:cNvSpPr/>
          <p:nvPr/>
        </p:nvSpPr>
        <p:spPr>
          <a:xfrm>
            <a:off x="1584000" y="6876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Retângulo 7"/>
          <p:cNvSpPr/>
          <p:nvPr/>
        </p:nvSpPr>
        <p:spPr>
          <a:xfrm>
            <a:off x="1296000" y="7236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Retângulo 8"/>
          <p:cNvSpPr/>
          <p:nvPr/>
        </p:nvSpPr>
        <p:spPr>
          <a:xfrm>
            <a:off x="1368000" y="759708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Retângulo 9"/>
          <p:cNvSpPr/>
          <p:nvPr/>
        </p:nvSpPr>
        <p:spPr>
          <a:xfrm>
            <a:off x="3528360" y="6876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Retângulo 10"/>
          <p:cNvSpPr/>
          <p:nvPr/>
        </p:nvSpPr>
        <p:spPr>
          <a:xfrm>
            <a:off x="3528360" y="7236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Retângulo 11"/>
          <p:cNvSpPr/>
          <p:nvPr/>
        </p:nvSpPr>
        <p:spPr>
          <a:xfrm>
            <a:off x="3528360" y="759708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  <p:sp>
        <p:nvSpPr>
          <p:cNvPr id="243" name="Retângulo 12"/>
          <p:cNvSpPr/>
          <p:nvPr/>
        </p:nvSpPr>
        <p:spPr>
          <a:xfrm>
            <a:off x="1296000" y="795708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Retângulo 13"/>
          <p:cNvSpPr/>
          <p:nvPr/>
        </p:nvSpPr>
        <p:spPr>
          <a:xfrm>
            <a:off x="936000" y="810108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Retângulo 14"/>
          <p:cNvSpPr/>
          <p:nvPr/>
        </p:nvSpPr>
        <p:spPr>
          <a:xfrm>
            <a:off x="1224000" y="846108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Retângulo 15"/>
          <p:cNvSpPr/>
          <p:nvPr/>
        </p:nvSpPr>
        <p:spPr>
          <a:xfrm>
            <a:off x="3528360" y="8029080"/>
            <a:ext cx="791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Retângulo 16"/>
          <p:cNvSpPr/>
          <p:nvPr/>
        </p:nvSpPr>
        <p:spPr>
          <a:xfrm>
            <a:off x="3528360" y="8389080"/>
            <a:ext cx="791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Retângulo 17"/>
          <p:cNvSpPr/>
          <p:nvPr/>
        </p:nvSpPr>
        <p:spPr>
          <a:xfrm>
            <a:off x="3456360" y="8857080"/>
            <a:ext cx="791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31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Módulos do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ângulo de cantos arredondados 10"/>
          <p:cNvSpPr/>
          <p:nvPr/>
        </p:nvSpPr>
        <p:spPr>
          <a:xfrm>
            <a:off x="1872000" y="1908360"/>
            <a:ext cx="8280720" cy="935640"/>
          </a:xfrm>
          <a:prstGeom prst="roundRect">
            <a:avLst>
              <a:gd name="adj" fmla="val 16667"/>
            </a:avLst>
          </a:prstGeom>
          <a:gradFill rotWithShape="0">
            <a:gsLst>
              <a:gs pos="80000">
                <a:srgbClr val="0000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  <a:scene3d>
            <a:camera prst="orthographicFront">
              <a:rot lat="0" lon="0" rev="0"/>
            </a:camera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4000" spc="-1" strike="noStrike">
                <a:solidFill>
                  <a:schemeClr val="lt1"/>
                </a:solidFill>
                <a:latin typeface="Calibri"/>
              </a:rPr>
              <a:t>FI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de cantos arredondados 11"/>
          <p:cNvSpPr/>
          <p:nvPr/>
        </p:nvSpPr>
        <p:spPr>
          <a:xfrm>
            <a:off x="1944000" y="3204360"/>
            <a:ext cx="2664000" cy="295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Retângulo de cantos arredondados 12"/>
          <p:cNvSpPr/>
          <p:nvPr/>
        </p:nvSpPr>
        <p:spPr>
          <a:xfrm>
            <a:off x="4752360" y="3204360"/>
            <a:ext cx="2664000" cy="295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Retângulo de cantos arredondados 13"/>
          <p:cNvSpPr/>
          <p:nvPr/>
        </p:nvSpPr>
        <p:spPr>
          <a:xfrm>
            <a:off x="7632720" y="3204360"/>
            <a:ext cx="2664000" cy="295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t-BR" sz="3600" spc="-1" strike="noStrike">
                <a:solidFill>
                  <a:schemeClr val="lt1"/>
                </a:solidFill>
                <a:latin typeface="Calibri"/>
              </a:rPr>
              <a:t>CONSULTA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pt-BR" sz="2400" spc="-1" strike="noStrike">
                <a:solidFill>
                  <a:schemeClr val="lt1"/>
                </a:solidFill>
                <a:latin typeface="Calibri"/>
              </a:rPr>
              <a:t>ACESS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ixaDeTexto 15"/>
          <p:cNvSpPr/>
          <p:nvPr/>
        </p:nvSpPr>
        <p:spPr>
          <a:xfrm>
            <a:off x="4968720" y="3348000"/>
            <a:ext cx="230328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ÓDULO EX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CESSO 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PAR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ixaDeTexto 16"/>
          <p:cNvSpPr/>
          <p:nvPr/>
        </p:nvSpPr>
        <p:spPr>
          <a:xfrm>
            <a:off x="2087640" y="3276720"/>
            <a:ext cx="2376000" cy="301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ÓDULO IN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CESSO DA JUSTIÇA ELEIT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0" y="3600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50" name="CaixaDeTexto 4"/>
          <p:cNvSpPr/>
          <p:nvPr/>
        </p:nvSpPr>
        <p:spPr>
          <a:xfrm>
            <a:off x="360360" y="179280"/>
            <a:ext cx="1080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Autorização de Processamento de Rel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ço Reservado para Conteúdo 1"/>
          <p:cNvSpPr/>
          <p:nvPr/>
        </p:nvSpPr>
        <p:spPr>
          <a:xfrm>
            <a:off x="431640" y="1332000"/>
            <a:ext cx="11351880" cy="65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róximas inovações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4706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rocessamento imediato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4706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ainel informativo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3600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53" name="CaixaDeTexto 4"/>
          <p:cNvSpPr/>
          <p:nvPr/>
        </p:nvSpPr>
        <p:spPr>
          <a:xfrm>
            <a:off x="360360" y="179280"/>
            <a:ext cx="1080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Autorização de Processamento de Rel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ço Reservado para Conteúdo 1"/>
          <p:cNvSpPr/>
          <p:nvPr/>
        </p:nvSpPr>
        <p:spPr>
          <a:xfrm>
            <a:off x="431640" y="1332000"/>
            <a:ext cx="11351880" cy="65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Suporte ao sistema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4706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Telefone: (61) 3030-88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4706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E-mail: 8800@tse.jus.b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aixaDeTexto 2"/>
          <p:cNvSpPr/>
          <p:nvPr/>
        </p:nvSpPr>
        <p:spPr>
          <a:xfrm>
            <a:off x="3132000" y="3595680"/>
            <a:ext cx="5976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brigad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39" name="CaixaDeTexto 4"/>
          <p:cNvSpPr/>
          <p:nvPr/>
        </p:nvSpPr>
        <p:spPr>
          <a:xfrm>
            <a:off x="360360" y="179280"/>
            <a:ext cx="75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Migração dos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ço Reservado para Conteúdo 1"/>
          <p:cNvSpPr/>
          <p:nvPr/>
        </p:nvSpPr>
        <p:spPr>
          <a:xfrm>
            <a:off x="432000" y="1620360"/>
            <a:ext cx="1135188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4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Informaçõ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Serão migrados do SGIP todos os usuários de presidentes NACIONAIS como usuários no FIL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864000" indent="-2880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SzPct val="55000"/>
              <a:buFont typeface="Wingdings" charset="2"/>
              <a:buChar char=""/>
              <a:tabLst>
                <a:tab algn="l" pos="0"/>
              </a:tabLst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s presidentes dos diretórios nacionais receberão um e-mail avisando sobre o acesso ao sistem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SzPct val="55000"/>
              <a:buFont typeface="Wingdings" charset="2"/>
              <a:buChar char=""/>
              <a:tabLst>
                <a:tab algn="l" pos="0"/>
              </a:tabLst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s usuários dos demais diretórios partidários serão cadastrados pelos respectivos dirigentes nacionais, respeitando a autonomia de cada partido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SzPct val="55000"/>
              <a:buFont typeface="Wingdings" charset="2"/>
              <a:buChar char=""/>
              <a:tabLst>
                <a:tab algn="l" pos="0"/>
              </a:tabLst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s dados do FILIAWEB serão migrados para o novo FIL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3600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42" name="CaixaDeTexto 4"/>
          <p:cNvSpPr/>
          <p:nvPr/>
        </p:nvSpPr>
        <p:spPr>
          <a:xfrm>
            <a:off x="360360" y="179280"/>
            <a:ext cx="1036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FI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ço Reservado para Conteúdo 1"/>
          <p:cNvSpPr/>
          <p:nvPr/>
        </p:nvSpPr>
        <p:spPr>
          <a:xfrm>
            <a:off x="432000" y="1620360"/>
            <a:ext cx="11351880" cy="59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4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Novidades da nova versã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rgbClr val="10243e"/>
                </a:solidFill>
                <a:latin typeface="Calibri"/>
              </a:rPr>
              <a:t>Reestruturação dos perfis de usuários. No Filia, um usuário do diretório nacional </a:t>
            </a: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ode atuar em um estado ou município/zona. A mesma regra se aplica para usuários do diretório estadua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Atualização automática em caso de transferência de domicílio de filiados (não existe mais a necessidade de aceite no módulo interno)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Cancelamento automático de filiação em caso de óbito e de cassação dos direitos polític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45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ço Reservado para Conteúdo 1"/>
          <p:cNvSpPr/>
          <p:nvPr/>
        </p:nvSpPr>
        <p:spPr>
          <a:xfrm>
            <a:off x="457200" y="971640"/>
            <a:ext cx="1135188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39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Regr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47096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 </a:t>
            </a:r>
            <a:r>
              <a:rPr b="1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Administrador Nacional</a:t>
            </a: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que foi cadastrado no </a:t>
            </a:r>
            <a:r>
              <a:rPr b="1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Módulo Interno – ambiente TSE</a:t>
            </a: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será o responsável pelos seguintes cadas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936720" y="3132000"/>
            <a:ext cx="9953280" cy="5000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49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ço Reservado para Conteúdo 1"/>
          <p:cNvSpPr/>
          <p:nvPr/>
        </p:nvSpPr>
        <p:spPr>
          <a:xfrm>
            <a:off x="457200" y="971640"/>
            <a:ext cx="1135188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39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Regr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47096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 </a:t>
            </a:r>
            <a:r>
              <a:rPr b="1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Administrador Estadual</a:t>
            </a: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que foi cadastrado pelo administrador nacional ou por outro estadual será o responsável pelos seguintes cadas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872000" y="3204360"/>
            <a:ext cx="8905680" cy="489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53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ço Reservado para Conteúdo 1"/>
          <p:cNvSpPr/>
          <p:nvPr/>
        </p:nvSpPr>
        <p:spPr>
          <a:xfrm>
            <a:off x="457200" y="971640"/>
            <a:ext cx="1135188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39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Regr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47096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 </a:t>
            </a:r>
            <a:r>
              <a:rPr b="1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Administrador Municipal</a:t>
            </a: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que foi cadastrado pelo administrador nacional, estadual ou por outro municipal será o responsável pelos seguintes cadas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1512000" y="3348360"/>
            <a:ext cx="9124560" cy="4667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57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ço Reservado para Conteúdo 1"/>
          <p:cNvSpPr/>
          <p:nvPr/>
        </p:nvSpPr>
        <p:spPr>
          <a:xfrm>
            <a:off x="457200" y="971640"/>
            <a:ext cx="1135188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39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Regr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47096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 </a:t>
            </a:r>
            <a:r>
              <a:rPr b="1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Administrador Zonal</a:t>
            </a: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que foi cadastrado pelo administrador nacional, estadual ou por outro zonal será o responsável pelos seguintes cadas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2232000" y="3204360"/>
            <a:ext cx="8143560" cy="478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61" name="CaixaDeTexto 4"/>
          <p:cNvSpPr/>
          <p:nvPr/>
        </p:nvSpPr>
        <p:spPr>
          <a:xfrm>
            <a:off x="360360" y="179280"/>
            <a:ext cx="864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Acesso ao Módulo Externo - FIL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1116360"/>
            <a:ext cx="12240720" cy="7884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2</TotalTime>
  <Application>LibreOffice/7.4.7.2$Linux_X86_64 LibreOffice_project/40$Build-2</Application>
  <AppVersion>15.0000</AppVersion>
  <Words>433</Words>
  <Paragraphs>84</Paragraphs>
  <Company>TS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20:34:00Z</dcterms:created>
  <dc:creator>maycon.sadala</dc:creator>
  <dc:description/>
  <dc:language>en-US</dc:language>
  <cp:lastModifiedBy>wilton.freire</cp:lastModifiedBy>
  <dcterms:modified xsi:type="dcterms:W3CDTF">2019-09-06T17:57:37Z</dcterms:modified>
  <cp:revision>3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Personalizar</vt:lpwstr>
  </property>
  <property fmtid="{D5CDD505-2E9C-101B-9397-08002B2CF9AE}" pid="4" name="Slides">
    <vt:r8>22</vt:r8>
  </property>
</Properties>
</file>