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2241213" cy="9001125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58D-C7CC-4819-822A-28BA2DFA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10F-3EB8-4CC6-80C5-DAA31EA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0B0-35B2-4265-BE52-2B222E6F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3692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6148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00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3692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6148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5E8-9DA8-442B-9B4B-9D279DC5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88A0-21F3-462C-ACD6-F57CF65E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1447-0E39-46B5-AF70-036D0299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2E10-D964-4456-987E-FBFCADD3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66EB-ABC1-44C7-9023-F5B9DA0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DC8-57C8-4B28-9F22-65CDDEC3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2000" y="358920"/>
            <a:ext cx="1101636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82DA-D08C-4254-8BE5-61758D4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DD04-3399-4FD6-89BB-0888574C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32A-F254-4184-BDB3-A03C735F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6A8A-E1CD-4FCD-AF95-247D145E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E6C1-0514-40B5-9196-62B35CF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E13A-0C25-47FC-95B1-51F9492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926E-9F11-4C14-90B7-D04C6D09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3692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6148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200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3692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6148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3AC4-70FB-49E2-AE7A-F29EFE2F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5E49-2EC0-4091-B4AE-B0AAAF7E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E095-96B1-49BD-A924-E674B103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798B-A89F-4811-B9AA-9EE1A02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8A83-4744-4C44-BDBE-E4C20F98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CABE-547E-4EBD-AA41-E44707AF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3DE-1D36-44A6-9481-8C1814B1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12000" y="358920"/>
            <a:ext cx="1101636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385D-8359-49D6-987E-CA511068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49E1-0313-4683-A55A-3F7384B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6510-DE45-49B0-A634-3B5A329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BD7E-D19D-4766-A850-8C41C15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B3E6-72EE-4D86-96F9-B314A05E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FC81-3805-405D-A0C1-1D11FCF8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3692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061480" y="126036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1200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3692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061480" y="4801680"/>
            <a:ext cx="3547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32DC-8666-4D14-BC7F-7CF46932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BF0-D606-4DA1-9F6D-74901001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88C-4E57-4711-A373-283F3B6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2000" y="358920"/>
            <a:ext cx="1101636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CA5-5455-457B-9FD4-FC15ADC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456-FEE5-4CC4-BE79-C17E1AC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57160" y="480168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2EB-824E-4630-93B8-1DDAF64E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00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57160" y="1260360"/>
            <a:ext cx="53758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000" y="4801680"/>
            <a:ext cx="1101672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8CC-7A68-456D-A947-1FF1495D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aixaDeTexto 6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CaixaDeTexto 3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8000" y="2796120"/>
            <a:ext cx="10404720" cy="1928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1320" rIns="121320" tIns="60840" bIns="608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5000" spc="-1" strike="noStrike">
                <a:solidFill>
                  <a:srgbClr val="254061"/>
                </a:solidFill>
                <a:latin typeface="Calibri"/>
              </a:rPr>
              <a:t>Clique para editar o estilo do título mestre</a:t>
            </a:r>
            <a:endParaRPr b="0" lang="pt-BR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1272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6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83200" y="8342280"/>
            <a:ext cx="387468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7248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5CA13-85D4-43AE-B492-5C768FE30007}" type="slidenum">
              <a:rPr b="0" lang="pt-BR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12000" y="2106000"/>
            <a:ext cx="11016360" cy="52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4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pt-BR" sz="3200" spc="-1" strike="noStrike">
              <a:solidFill>
                <a:srgbClr val="254061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aixaDeTexto 6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2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71640"/>
            <a:ext cx="12240720" cy="972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1320" rIns="121320" tIns="60840" bIns="608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5000" spc="-1" strike="noStrike">
                <a:solidFill>
                  <a:srgbClr val="254061"/>
                </a:solidFill>
                <a:latin typeface="Calibri"/>
              </a:rPr>
              <a:t>Clique para editar o estilo do título mestre</a:t>
            </a:r>
            <a:endParaRPr b="0" lang="pt-BR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1272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6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183200" y="8342280"/>
            <a:ext cx="387468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77248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3C054F-E7A8-4037-9D33-F4847900941A}" type="slidenum">
              <a:rPr b="0" lang="pt-BR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12000" y="2106000"/>
            <a:ext cx="11016360" cy="52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4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pt-BR" sz="3200" spc="-1" strike="noStrike">
              <a:solidFill>
                <a:srgbClr val="254061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ixaDeTexto 6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TÍTULO DA APRESEN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12000" y="1260360"/>
            <a:ext cx="11016720" cy="6779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1320" rIns="121320" tIns="60840" bIns="60840" anchor="t">
            <a:noAutofit/>
          </a:bodyPr>
          <a:p>
            <a:pPr marL="287280" indent="-28728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Wingdings" charset="2"/>
              <a:buChar char=""/>
            </a:pPr>
            <a:r>
              <a:rPr b="0" lang="pt-BR" sz="4200" spc="-1" strike="noStrike">
                <a:solidFill>
                  <a:srgbClr val="254061"/>
                </a:solidFill>
                <a:latin typeface="Calibri"/>
              </a:rPr>
              <a:t>Clique para editar os estilos do texto mestre</a:t>
            </a:r>
            <a:endParaRPr b="0" lang="pt-BR" sz="4200" spc="-1" strike="noStrike">
              <a:solidFill>
                <a:srgbClr val="254061"/>
              </a:solidFill>
              <a:latin typeface="Calibri"/>
            </a:endParaRPr>
          </a:p>
          <a:p>
            <a:pPr lvl="1" marL="574560" indent="-2872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0" lang="pt-BR" sz="3700" spc="-1" strike="noStrike">
                <a:solidFill>
                  <a:srgbClr val="254061"/>
                </a:solidFill>
                <a:latin typeface="Calibri"/>
              </a:rPr>
              <a:t>Segundo nível</a:t>
            </a:r>
            <a:endParaRPr b="0" lang="pt-BR" sz="3700" spc="-1" strike="noStrike">
              <a:solidFill>
                <a:srgbClr val="254061"/>
              </a:solidFill>
              <a:latin typeface="Calibri"/>
            </a:endParaRPr>
          </a:p>
          <a:p>
            <a:pPr lvl="2" marL="863640" indent="-28728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rgbClr val="254061"/>
                </a:solidFill>
                <a:latin typeface="Calibri"/>
              </a:rPr>
              <a:t>Terceiro nível</a:t>
            </a:r>
            <a:endParaRPr b="0" lang="pt-BR" sz="3200" spc="-1" strike="noStrike">
              <a:solidFill>
                <a:srgbClr val="254061"/>
              </a:solidFill>
              <a:latin typeface="Calibri"/>
            </a:endParaRPr>
          </a:p>
          <a:p>
            <a:pPr lvl="3" marL="1150920" indent="-28728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60000"/>
              <a:buFont typeface="Courier New"/>
              <a:buChar char="o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Quarto ní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  <a:p>
            <a:pPr lvl="4" marL="1440000" indent="-287280">
              <a:lnSpc>
                <a:spcPct val="100000"/>
              </a:lnSpc>
              <a:spcBef>
                <a:spcPts val="201"/>
              </a:spcBef>
              <a:buClr>
                <a:srgbClr val="254061"/>
              </a:buClr>
              <a:buSzPct val="60000"/>
              <a:buFont typeface="Arial"/>
              <a:buChar char="»"/>
            </a:pPr>
            <a:r>
              <a:rPr b="0" lang="pt-BR" sz="2700" spc="-1" strike="noStrike">
                <a:solidFill>
                  <a:srgbClr val="254061"/>
                </a:solidFill>
                <a:latin typeface="Calibri"/>
              </a:rPr>
              <a:t>Quinto nível</a:t>
            </a:r>
            <a:endParaRPr b="0" lang="pt-BR" sz="27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61272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6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4183200" y="8342280"/>
            <a:ext cx="387468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8772480" y="8342280"/>
            <a:ext cx="2855520" cy="479160"/>
          </a:xfrm>
          <a:prstGeom prst="rect">
            <a:avLst/>
          </a:prstGeom>
          <a:noFill/>
          <a:ln w="0">
            <a:noFill/>
          </a:ln>
        </p:spPr>
        <p:txBody>
          <a:bodyPr lIns="121320" rIns="12132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3D012E-6416-4DD7-9500-A90727B409AE}" type="slidenum">
              <a:rPr b="0" lang="pt-BR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612000" y="358920"/>
            <a:ext cx="1101636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pt-B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aixaDeTexto 6"/>
          <p:cNvSpPr/>
          <p:nvPr/>
        </p:nvSpPr>
        <p:spPr>
          <a:xfrm>
            <a:off x="431640" y="755640"/>
            <a:ext cx="8353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6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Sistema de Filiação Partidár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7"/>
          <p:cNvSpPr/>
          <p:nvPr/>
        </p:nvSpPr>
        <p:spPr>
          <a:xfrm>
            <a:off x="2016000" y="3780000"/>
            <a:ext cx="5976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9600" spc="-1" strike="noStrike">
                <a:solidFill>
                  <a:srgbClr val="808080"/>
                </a:solidFill>
                <a:latin typeface="Calibri"/>
              </a:rPr>
              <a:t>FIL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64" name="CaixaDeTexto 4"/>
          <p:cNvSpPr/>
          <p:nvPr/>
        </p:nvSpPr>
        <p:spPr>
          <a:xfrm>
            <a:off x="360360" y="179280"/>
            <a:ext cx="864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Acesso ao Módulo Externo - FIL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6"/>
          <p:cNvSpPr/>
          <p:nvPr/>
        </p:nvSpPr>
        <p:spPr>
          <a:xfrm>
            <a:off x="3168360" y="241236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Retângulo 7"/>
          <p:cNvSpPr/>
          <p:nvPr/>
        </p:nvSpPr>
        <p:spPr>
          <a:xfrm>
            <a:off x="5328360" y="241236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972000"/>
            <a:ext cx="12240720" cy="8028720"/>
          </a:xfrm>
          <a:prstGeom prst="rect">
            <a:avLst/>
          </a:prstGeom>
          <a:ln w="9525">
            <a:noFill/>
          </a:ln>
        </p:spPr>
      </p:pic>
      <p:sp>
        <p:nvSpPr>
          <p:cNvPr id="168" name="Retângulo 8"/>
          <p:cNvSpPr/>
          <p:nvPr/>
        </p:nvSpPr>
        <p:spPr>
          <a:xfrm>
            <a:off x="3240360" y="270036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Retângulo 9"/>
          <p:cNvSpPr/>
          <p:nvPr/>
        </p:nvSpPr>
        <p:spPr>
          <a:xfrm>
            <a:off x="6120720" y="270036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71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ângulo 6"/>
          <p:cNvSpPr/>
          <p:nvPr/>
        </p:nvSpPr>
        <p:spPr>
          <a:xfrm>
            <a:off x="1512000" y="716472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Retângulo 7"/>
          <p:cNvSpPr/>
          <p:nvPr/>
        </p:nvSpPr>
        <p:spPr>
          <a:xfrm>
            <a:off x="1512000" y="759708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Retângulo 8"/>
          <p:cNvSpPr/>
          <p:nvPr/>
        </p:nvSpPr>
        <p:spPr>
          <a:xfrm>
            <a:off x="1512000" y="802908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Retângulo 9"/>
          <p:cNvSpPr/>
          <p:nvPr/>
        </p:nvSpPr>
        <p:spPr>
          <a:xfrm>
            <a:off x="3600360" y="716472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Retângulo 10"/>
          <p:cNvSpPr/>
          <p:nvPr/>
        </p:nvSpPr>
        <p:spPr>
          <a:xfrm>
            <a:off x="3600360" y="7597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Retângulo 11"/>
          <p:cNvSpPr/>
          <p:nvPr/>
        </p:nvSpPr>
        <p:spPr>
          <a:xfrm>
            <a:off x="3600360" y="8029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Retângulo 12"/>
          <p:cNvSpPr/>
          <p:nvPr/>
        </p:nvSpPr>
        <p:spPr>
          <a:xfrm>
            <a:off x="4464360" y="8029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Retângulo 13"/>
          <p:cNvSpPr/>
          <p:nvPr/>
        </p:nvSpPr>
        <p:spPr>
          <a:xfrm>
            <a:off x="4464360" y="759708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Retângulo 14"/>
          <p:cNvSpPr/>
          <p:nvPr/>
        </p:nvSpPr>
        <p:spPr>
          <a:xfrm>
            <a:off x="4464360" y="716472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0" y="972000"/>
            <a:ext cx="12240720" cy="8028720"/>
          </a:xfrm>
          <a:prstGeom prst="rect">
            <a:avLst/>
          </a:prstGeom>
          <a:ln w="9525">
            <a:noFill/>
          </a:ln>
        </p:spPr>
      </p:pic>
      <p:sp>
        <p:nvSpPr>
          <p:cNvPr id="182" name="Retângulo 15"/>
          <p:cNvSpPr/>
          <p:nvPr/>
        </p:nvSpPr>
        <p:spPr>
          <a:xfrm>
            <a:off x="6408720" y="356436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Retângulo 16"/>
          <p:cNvSpPr/>
          <p:nvPr/>
        </p:nvSpPr>
        <p:spPr>
          <a:xfrm>
            <a:off x="1368000" y="745272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Retângulo 17"/>
          <p:cNvSpPr/>
          <p:nvPr/>
        </p:nvSpPr>
        <p:spPr>
          <a:xfrm>
            <a:off x="3456360" y="7452720"/>
            <a:ext cx="503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Retângulo 18"/>
          <p:cNvSpPr/>
          <p:nvPr/>
        </p:nvSpPr>
        <p:spPr>
          <a:xfrm>
            <a:off x="4320360" y="7452720"/>
            <a:ext cx="64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87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90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-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93" name="CaixaDeTexto 4"/>
          <p:cNvSpPr/>
          <p:nvPr/>
        </p:nvSpPr>
        <p:spPr>
          <a:xfrm>
            <a:off x="360360" y="179280"/>
            <a:ext cx="979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Registro de Filiação </a:t>
            </a: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– Módulo Externo</a:t>
            </a: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Conteúdo 1"/>
          <p:cNvSpPr/>
          <p:nvPr/>
        </p:nvSpPr>
        <p:spPr>
          <a:xfrm>
            <a:off x="457200" y="1600200"/>
            <a:ext cx="1135188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4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Principais regr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Não será permitido o cadastro de filiado quando houver alguma inconsistência entre os dados informados no sistema e os dados cadastrados no Cadastro Nacional de Eleitores (nome, seção, inscrição e zona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nome do filiado deverá estar igual ao que consta no Cadastro Nacional de Eleitores, desconsiderando acent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Não será possível cadastrar um registro de filiação cuja inscrição não esteja regular no Cadastro Nacional de Eleit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96" name="CaixaDeTexto 4"/>
          <p:cNvSpPr/>
          <p:nvPr/>
        </p:nvSpPr>
        <p:spPr>
          <a:xfrm>
            <a:off x="360360" y="179280"/>
            <a:ext cx="820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Registro de Filiaçã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tângulo 10"/>
          <p:cNvSpPr/>
          <p:nvPr/>
        </p:nvSpPr>
        <p:spPr>
          <a:xfrm>
            <a:off x="1512000" y="666072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Retângulo 11"/>
          <p:cNvSpPr/>
          <p:nvPr/>
        </p:nvSpPr>
        <p:spPr>
          <a:xfrm>
            <a:off x="1296000" y="6876720"/>
            <a:ext cx="1007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Retângulo 12"/>
          <p:cNvSpPr/>
          <p:nvPr/>
        </p:nvSpPr>
        <p:spPr>
          <a:xfrm>
            <a:off x="1440000" y="7164720"/>
            <a:ext cx="935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Retângulo 13"/>
          <p:cNvSpPr/>
          <p:nvPr/>
        </p:nvSpPr>
        <p:spPr>
          <a:xfrm>
            <a:off x="1296000" y="7380720"/>
            <a:ext cx="935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  <p:sp>
        <p:nvSpPr>
          <p:cNvPr id="202" name="Retângulo 15"/>
          <p:cNvSpPr/>
          <p:nvPr/>
        </p:nvSpPr>
        <p:spPr>
          <a:xfrm>
            <a:off x="1296000" y="6948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Retângulo 16"/>
          <p:cNvSpPr/>
          <p:nvPr/>
        </p:nvSpPr>
        <p:spPr>
          <a:xfrm>
            <a:off x="1152000" y="7164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Retângulo 17"/>
          <p:cNvSpPr/>
          <p:nvPr/>
        </p:nvSpPr>
        <p:spPr>
          <a:xfrm>
            <a:off x="1296000" y="7380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Retângulo 18"/>
          <p:cNvSpPr/>
          <p:nvPr/>
        </p:nvSpPr>
        <p:spPr>
          <a:xfrm>
            <a:off x="1152000" y="7669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3"/>
          <a:stretch/>
        </p:blipFill>
        <p:spPr>
          <a:xfrm>
            <a:off x="8280720" y="7524720"/>
            <a:ext cx="466200" cy="190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9793080" y="7452720"/>
            <a:ext cx="837720" cy="313920"/>
          </a:xfrm>
          <a:prstGeom prst="rect">
            <a:avLst/>
          </a:prstGeom>
          <a:ln w="9525">
            <a:noFill/>
          </a:ln>
        </p:spPr>
      </p:pic>
      <p:sp>
        <p:nvSpPr>
          <p:cNvPr id="208" name="Retângulo 19"/>
          <p:cNvSpPr/>
          <p:nvPr/>
        </p:nvSpPr>
        <p:spPr>
          <a:xfrm>
            <a:off x="10657080" y="7524720"/>
            <a:ext cx="50364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Elipse 20"/>
          <p:cNvSpPr/>
          <p:nvPr/>
        </p:nvSpPr>
        <p:spPr>
          <a:xfrm>
            <a:off x="432000" y="3852360"/>
            <a:ext cx="1367640" cy="791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Retângulo 21"/>
          <p:cNvSpPr/>
          <p:nvPr/>
        </p:nvSpPr>
        <p:spPr>
          <a:xfrm>
            <a:off x="1080000" y="363636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Elipse 22"/>
          <p:cNvSpPr/>
          <p:nvPr/>
        </p:nvSpPr>
        <p:spPr>
          <a:xfrm>
            <a:off x="9577080" y="6588720"/>
            <a:ext cx="1583640" cy="1367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13" name="CaixaDeTexto 4"/>
          <p:cNvSpPr/>
          <p:nvPr/>
        </p:nvSpPr>
        <p:spPr>
          <a:xfrm>
            <a:off x="360360" y="179280"/>
            <a:ext cx="820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Registro de Filiaçã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ângulo 10"/>
          <p:cNvSpPr/>
          <p:nvPr/>
        </p:nvSpPr>
        <p:spPr>
          <a:xfrm>
            <a:off x="1368000" y="6804720"/>
            <a:ext cx="143964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Retângulo 11"/>
          <p:cNvSpPr/>
          <p:nvPr/>
        </p:nvSpPr>
        <p:spPr>
          <a:xfrm>
            <a:off x="1368000" y="7308720"/>
            <a:ext cx="143964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Retângulo 12"/>
          <p:cNvSpPr/>
          <p:nvPr/>
        </p:nvSpPr>
        <p:spPr>
          <a:xfrm>
            <a:off x="1152000" y="7092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Retângulo 13"/>
          <p:cNvSpPr/>
          <p:nvPr/>
        </p:nvSpPr>
        <p:spPr>
          <a:xfrm>
            <a:off x="1152000" y="7597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1080" cy="7956720"/>
          </a:xfrm>
          <a:prstGeom prst="rect">
            <a:avLst/>
          </a:prstGeom>
          <a:ln w="9525">
            <a:noFill/>
          </a:ln>
        </p:spPr>
      </p:pic>
      <p:sp>
        <p:nvSpPr>
          <p:cNvPr id="219" name="Retângulo 14"/>
          <p:cNvSpPr/>
          <p:nvPr/>
        </p:nvSpPr>
        <p:spPr>
          <a:xfrm>
            <a:off x="1296000" y="6804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Retângulo 15"/>
          <p:cNvSpPr/>
          <p:nvPr/>
        </p:nvSpPr>
        <p:spPr>
          <a:xfrm>
            <a:off x="1224000" y="7020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Retângulo 16"/>
          <p:cNvSpPr/>
          <p:nvPr/>
        </p:nvSpPr>
        <p:spPr>
          <a:xfrm>
            <a:off x="1296000" y="7308720"/>
            <a:ext cx="2016000" cy="215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Retângulo 17"/>
          <p:cNvSpPr/>
          <p:nvPr/>
        </p:nvSpPr>
        <p:spPr>
          <a:xfrm>
            <a:off x="1224000" y="7524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Retângulo 18"/>
          <p:cNvSpPr/>
          <p:nvPr/>
        </p:nvSpPr>
        <p:spPr>
          <a:xfrm>
            <a:off x="1080000" y="356436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Elipse 19"/>
          <p:cNvSpPr/>
          <p:nvPr/>
        </p:nvSpPr>
        <p:spPr>
          <a:xfrm>
            <a:off x="432000" y="3780360"/>
            <a:ext cx="1367640" cy="791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Elipse 20"/>
          <p:cNvSpPr/>
          <p:nvPr/>
        </p:nvSpPr>
        <p:spPr>
          <a:xfrm>
            <a:off x="9505080" y="6732720"/>
            <a:ext cx="1151640" cy="1079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27" name="CaixaDeTexto 4"/>
          <p:cNvSpPr/>
          <p:nvPr/>
        </p:nvSpPr>
        <p:spPr>
          <a:xfrm>
            <a:off x="360360" y="179280"/>
            <a:ext cx="820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Registro de Filiaçã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30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Relação Intern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  <p:sp>
        <p:nvSpPr>
          <p:cNvPr id="232" name="Elipse 7"/>
          <p:cNvSpPr/>
          <p:nvPr/>
        </p:nvSpPr>
        <p:spPr>
          <a:xfrm>
            <a:off x="10009080" y="7092720"/>
            <a:ext cx="1367640" cy="863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Elipse 8"/>
          <p:cNvSpPr/>
          <p:nvPr/>
        </p:nvSpPr>
        <p:spPr>
          <a:xfrm>
            <a:off x="3816360" y="2412360"/>
            <a:ext cx="1151640" cy="7196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35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Relação Intern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ângulo 6"/>
          <p:cNvSpPr/>
          <p:nvPr/>
        </p:nvSpPr>
        <p:spPr>
          <a:xfrm>
            <a:off x="1584000" y="687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Retângulo 7"/>
          <p:cNvSpPr/>
          <p:nvPr/>
        </p:nvSpPr>
        <p:spPr>
          <a:xfrm>
            <a:off x="1296000" y="723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Retângulo 8"/>
          <p:cNvSpPr/>
          <p:nvPr/>
        </p:nvSpPr>
        <p:spPr>
          <a:xfrm>
            <a:off x="1368000" y="7597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Retângulo 9"/>
          <p:cNvSpPr/>
          <p:nvPr/>
        </p:nvSpPr>
        <p:spPr>
          <a:xfrm>
            <a:off x="3528360" y="687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Retângulo 10"/>
          <p:cNvSpPr/>
          <p:nvPr/>
        </p:nvSpPr>
        <p:spPr>
          <a:xfrm>
            <a:off x="3528360" y="723672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Retângulo 11"/>
          <p:cNvSpPr/>
          <p:nvPr/>
        </p:nvSpPr>
        <p:spPr>
          <a:xfrm>
            <a:off x="3528360" y="7597080"/>
            <a:ext cx="1439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1044000"/>
            <a:ext cx="12240720" cy="7956720"/>
          </a:xfrm>
          <a:prstGeom prst="rect">
            <a:avLst/>
          </a:prstGeom>
          <a:ln w="9525">
            <a:noFill/>
          </a:ln>
        </p:spPr>
      </p:pic>
      <p:sp>
        <p:nvSpPr>
          <p:cNvPr id="243" name="Retângulo 12"/>
          <p:cNvSpPr/>
          <p:nvPr/>
        </p:nvSpPr>
        <p:spPr>
          <a:xfrm>
            <a:off x="1296000" y="795708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Retângulo 13"/>
          <p:cNvSpPr/>
          <p:nvPr/>
        </p:nvSpPr>
        <p:spPr>
          <a:xfrm>
            <a:off x="936000" y="810108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Retângulo 14"/>
          <p:cNvSpPr/>
          <p:nvPr/>
        </p:nvSpPr>
        <p:spPr>
          <a:xfrm>
            <a:off x="1224000" y="8461080"/>
            <a:ext cx="172800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Retângulo 15"/>
          <p:cNvSpPr/>
          <p:nvPr/>
        </p:nvSpPr>
        <p:spPr>
          <a:xfrm>
            <a:off x="3528360" y="8029080"/>
            <a:ext cx="791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Retângulo 16"/>
          <p:cNvSpPr/>
          <p:nvPr/>
        </p:nvSpPr>
        <p:spPr>
          <a:xfrm>
            <a:off x="3528360" y="8389080"/>
            <a:ext cx="791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Retângulo 17"/>
          <p:cNvSpPr/>
          <p:nvPr/>
        </p:nvSpPr>
        <p:spPr>
          <a:xfrm>
            <a:off x="3456360" y="8857080"/>
            <a:ext cx="791640" cy="14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31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Módulos do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ângulo de cantos arredondados 10"/>
          <p:cNvSpPr/>
          <p:nvPr/>
        </p:nvSpPr>
        <p:spPr>
          <a:xfrm>
            <a:off x="1872000" y="1908360"/>
            <a:ext cx="8280720" cy="935640"/>
          </a:xfrm>
          <a:prstGeom prst="roundRect">
            <a:avLst>
              <a:gd name="adj" fmla="val 16667"/>
            </a:avLst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  <a:scene3d>
            <a:camera prst="orthographicFront">
              <a:rot lat="0" lon="0" rev="0"/>
            </a:camera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pt-BR" sz="4000" spc="-1" strike="noStrike">
                <a:solidFill>
                  <a:schemeClr val="lt1"/>
                </a:solidFill>
                <a:latin typeface="Calibri"/>
              </a:rPr>
              <a:t>FI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de cantos arredondados 11"/>
          <p:cNvSpPr/>
          <p:nvPr/>
        </p:nvSpPr>
        <p:spPr>
          <a:xfrm>
            <a:off x="1944000" y="3204360"/>
            <a:ext cx="2664000" cy="295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Retângulo de cantos arredondados 12"/>
          <p:cNvSpPr/>
          <p:nvPr/>
        </p:nvSpPr>
        <p:spPr>
          <a:xfrm>
            <a:off x="4752360" y="3204360"/>
            <a:ext cx="2664000" cy="295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pt-BR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Retângulo de cantos arredondados 13"/>
          <p:cNvSpPr/>
          <p:nvPr/>
        </p:nvSpPr>
        <p:spPr>
          <a:xfrm>
            <a:off x="7632720" y="3204360"/>
            <a:ext cx="2664000" cy="295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pt-BR" sz="3600" spc="-1" strike="noStrike">
                <a:solidFill>
                  <a:schemeClr val="lt1"/>
                </a:solidFill>
                <a:latin typeface="Calibri"/>
              </a:rPr>
              <a:t>CONSULTA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chemeClr val="lt1"/>
                </a:solidFill>
                <a:latin typeface="Calibri"/>
              </a:rPr>
              <a:t>ACESS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15"/>
          <p:cNvSpPr/>
          <p:nvPr/>
        </p:nvSpPr>
        <p:spPr>
          <a:xfrm>
            <a:off x="4968720" y="3348000"/>
            <a:ext cx="230328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ÓDULO 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CESSO 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PAR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16"/>
          <p:cNvSpPr/>
          <p:nvPr/>
        </p:nvSpPr>
        <p:spPr>
          <a:xfrm>
            <a:off x="2087640" y="3276720"/>
            <a:ext cx="2376000" cy="301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ÓDULO IN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CESSO DA JUSTIÇA ELEIT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0" y="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50" name="CaixaDeTexto 4"/>
          <p:cNvSpPr/>
          <p:nvPr/>
        </p:nvSpPr>
        <p:spPr>
          <a:xfrm>
            <a:off x="360360" y="179280"/>
            <a:ext cx="1080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Autorização de Processamento de Rel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ço Reservado para Conteúdo 1"/>
          <p:cNvSpPr/>
          <p:nvPr/>
        </p:nvSpPr>
        <p:spPr>
          <a:xfrm>
            <a:off x="431640" y="1332000"/>
            <a:ext cx="11351880" cy="65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óximas inovaçõe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ocessamento imediato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ainel informativo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253" name="CaixaDeTexto 4"/>
          <p:cNvSpPr/>
          <p:nvPr/>
        </p:nvSpPr>
        <p:spPr>
          <a:xfrm>
            <a:off x="360360" y="179280"/>
            <a:ext cx="1080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Autorização de Processamento de Rel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ço Reservado para Conteúdo 1"/>
          <p:cNvSpPr/>
          <p:nvPr/>
        </p:nvSpPr>
        <p:spPr>
          <a:xfrm>
            <a:off x="431640" y="1332000"/>
            <a:ext cx="11351880" cy="65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Suporte ao sistema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Telefone: (61) 3030-88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470600" indent="-288000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7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E-mail: 8800@tse.jus.b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aixaDeTexto 2"/>
          <p:cNvSpPr/>
          <p:nvPr/>
        </p:nvSpPr>
        <p:spPr>
          <a:xfrm>
            <a:off x="3132000" y="3595680"/>
            <a:ext cx="597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39" name="CaixaDeTexto 4"/>
          <p:cNvSpPr/>
          <p:nvPr/>
        </p:nvSpPr>
        <p:spPr>
          <a:xfrm>
            <a:off x="360360" y="179280"/>
            <a:ext cx="75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Calibri"/>
              </a:rPr>
              <a:t>Migração dos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Conteúdo 1"/>
          <p:cNvSpPr/>
          <p:nvPr/>
        </p:nvSpPr>
        <p:spPr>
          <a:xfrm>
            <a:off x="432000" y="1620360"/>
            <a:ext cx="1135188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4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Informaçõ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Serão migrados do SGIP todos os usuários de presidentes NACIONAIS como usuários no FIL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  <a:tabLst>
                <a:tab algn="l" pos="0"/>
              </a:tabLst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s presidentes dos diretórios nacionais receberão um e-mail avisando sobre o acesso ao sistem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  <a:tabLst>
                <a:tab algn="l" pos="0"/>
              </a:tabLst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s usuários dos demais diretórios partidários serão cadastrados pelos respectivos dirigentes nacionais, respeitando a autonomia de cada partido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SzPct val="55000"/>
              <a:buFont typeface="Wingdings" charset="2"/>
              <a:buChar char=""/>
              <a:tabLst>
                <a:tab algn="l" pos="0"/>
              </a:tabLst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s dados do FILIAWEB serão migrados para o novo FIL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3600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42" name="CaixaDeTexto 4"/>
          <p:cNvSpPr/>
          <p:nvPr/>
        </p:nvSpPr>
        <p:spPr>
          <a:xfrm>
            <a:off x="360360" y="179280"/>
            <a:ext cx="1036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FI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Conteúdo 1"/>
          <p:cNvSpPr/>
          <p:nvPr/>
        </p:nvSpPr>
        <p:spPr>
          <a:xfrm>
            <a:off x="432000" y="1620360"/>
            <a:ext cx="1135188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4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Novidades da nova vers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rgbClr val="10243e"/>
                </a:solidFill>
                <a:latin typeface="Calibri"/>
              </a:rPr>
              <a:t>Reestruturação dos perfis de usuários. No Filia, um usuário do diretório nacional </a:t>
            </a: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ode atuar em um estado ou município/zona. A mesma regra se aplica para usuários do diretório estadu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tualização automática em caso de transferência de domicílio de filiados (não existe mais a necessidade de aceite no módulo interno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2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Cancelamento automático de filiação em caso de óbito e de cassação dos direitos polític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45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Nacion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n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Módulo Interno – ambiente TSE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936720" y="3132000"/>
            <a:ext cx="9953280" cy="5000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49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Estadu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pelo administrador nacional ou por outro estadual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872000" y="3204360"/>
            <a:ext cx="8905680" cy="48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53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Municip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pelo administrador nacional, estadual ou por outro municipal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1512000" y="3348360"/>
            <a:ext cx="9124560" cy="466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57" name="CaixaDeTexto 4"/>
          <p:cNvSpPr/>
          <p:nvPr/>
        </p:nvSpPr>
        <p:spPr>
          <a:xfrm>
            <a:off x="360360" y="179280"/>
            <a:ext cx="597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Usuário – Módulo Exter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Conteúdo 1"/>
          <p:cNvSpPr/>
          <p:nvPr/>
        </p:nvSpPr>
        <p:spPr>
          <a:xfrm>
            <a:off x="457200" y="971640"/>
            <a:ext cx="113518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254061"/>
              </a:buClr>
              <a:buSzPct val="70000"/>
              <a:buFont typeface="Arial"/>
              <a:buChar char="•"/>
            </a:pPr>
            <a:r>
              <a:rPr b="1" lang="pt-BR" sz="39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Regr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470960" indent="-288000" algn="just">
              <a:lnSpc>
                <a:spcPct val="100000"/>
              </a:lnSpc>
              <a:spcBef>
                <a:spcPts val="300"/>
              </a:spcBef>
              <a:buClr>
                <a:srgbClr val="254061"/>
              </a:buClr>
              <a:buSzPct val="55000"/>
              <a:buFont typeface="Wingdings" charset="2"/>
              <a:buChar char=""/>
            </a:pP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O </a:t>
            </a:r>
            <a:r>
              <a:rPr b="1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dministrador Zonal</a:t>
            </a:r>
            <a:r>
              <a:rPr b="0" lang="pt-BR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que foi cadastrado pelo administrador nacional, estadual ou por outro zonal será o responsável pelos seguintes cadas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2232000" y="3204360"/>
            <a:ext cx="8143560" cy="478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240720" cy="9000720"/>
          </a:xfrm>
          <a:prstGeom prst="rect">
            <a:avLst/>
          </a:prstGeom>
          <a:ln w="9525">
            <a:noFill/>
          </a:ln>
          <a:scene3d>
            <a:camera prst="orthographicFront"/>
            <a:lightRig dir="t" rig="threePt"/>
          </a:scene3d>
          <a:sp3d>
            <a:bevelT w="139700"/>
          </a:sp3d>
        </p:spPr>
      </p:pic>
      <p:sp>
        <p:nvSpPr>
          <p:cNvPr id="161" name="CaixaDeTexto 4"/>
          <p:cNvSpPr/>
          <p:nvPr/>
        </p:nvSpPr>
        <p:spPr>
          <a:xfrm>
            <a:off x="360360" y="179280"/>
            <a:ext cx="864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3600" spc="-1" strike="noStrike">
                <a:solidFill>
                  <a:srgbClr val="d9d9d9"/>
                </a:solidFill>
                <a:latin typeface="Arial"/>
              </a:rPr>
              <a:t>Acesso ao Módulo Externo - FIL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1116360"/>
            <a:ext cx="12240720" cy="788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  <Words>433</Words>
  <Paragraphs>84</Paragraphs>
  <Company>TS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20:34:00Z</dcterms:created>
  <dc:creator>maycon.sadala</dc:creator>
  <dc:description/>
  <dc:language>en-US</dc:language>
  <cp:lastModifiedBy>wilton.freire</cp:lastModifiedBy>
  <dcterms:modified xsi:type="dcterms:W3CDTF">2019-09-06T17:57:37Z</dcterms:modified>
  <cp:revision>3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Personalizar</vt:lpwstr>
  </property>
  <property fmtid="{D5CDD505-2E9C-101B-9397-08002B2CF9AE}" pid="4" name="Slides">
    <vt:r8>22</vt:r8>
  </property>
</Properties>
</file>